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8674-F429-4F56-9835-DA7C854FB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uuryuyuy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024-23C8-4E4D-934B-83CAF0EF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8D8-3292-4FC5-8279-4BBFD2CE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34C-3593-4785-8F52-E3B5D11C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64A-6B9C-4A33-97CA-089BF85D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AC9FA-DA18-48AE-ADFB-A5F3092E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61AC7-AA9D-4181-81AB-4E3C8892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9D624-7342-4232-99CF-34A2B755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3D23C-FFAF-4E14-AC25-8940464D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D441D-1E58-4B13-857A-4816EBB1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F2702-268C-4279-904F-7E45F181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13CD8-CED7-4141-BBC8-2ACCF18B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1EA-4874-4E46-875A-6E9EC69F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FC67F-467B-4D7E-A5A1-3B602104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99CE5-EB56-4373-B7B9-733C77C5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35166-336A-4A62-A0B4-85AEDC0D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443D2-A3FB-457C-8856-FE4B96FA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1E36C-082F-41F7-B0A0-1E02DCC0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89B6F-C068-4B47-9A29-DE6E3C60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D8FC6-A02D-4341-B835-AFCD93A3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FD1BB-29CA-42F0-9EAF-3E355D52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1E207-CF6E-4E20-A3C4-177A83A7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D650D-0751-42DE-8AAD-27DD5B08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AB9-CD26-4E9B-A952-50527ADE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9D41A-950A-4E27-AB88-A4449908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88B41-31BE-43BD-A2A5-40D78F2A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9F00E-8EC9-4C7E-9829-C5D06771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51A3B9-52D8-48A0-A519-6C222C6C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A3B5C-A0EA-49EA-A02E-6560E493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014907-6EE6-4205-AEEC-300DD85D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27F62-D667-4C2C-9278-2F84FD85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09D6A-67FE-4C85-865B-1912F229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3D0C4-DC37-44C6-A15F-F59DBACD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AD112-06AC-4A30-8A8C-5427C272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25B-2292-4137-81E0-FD25AD90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67039-EB0F-4270-989C-52ACF4E8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9A891-D9A1-485C-9883-0ED8485E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90364-01FA-407C-B87F-A510C5B3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ED726-608C-4144-BF9F-075BA1EF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0B35A-05AD-4A2F-80EB-8D111858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7E11A-032B-4BE9-B466-DAB5C4A6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8E6F9-BAE8-4ACC-A6B6-56D77197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7BF70-24E2-4237-AD51-C8F31869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5EF39-FA55-46CA-9CF3-3A9301E7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96A1E1-0A27-44D7-882C-C9B3E125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4288-B022-4B64-B736-416DA8DC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088596-6084-469F-BE9B-99C38D87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CFC6C7-1C62-45D2-A424-06CD8815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F24C62-F3B3-4CDB-8EAD-FB744B57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FEE183-6D82-4A10-A5CC-303B3AF7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3190E6-CC38-4AC4-8D9B-1A76130F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1BAF34-8C63-469C-982C-0413ED1B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CE97E1-C18B-4242-8564-36278C0D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5A8486-4272-478E-AA95-F916080E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16F0B5-B8C2-47D7-9695-9F17DE42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AE994-0721-40B6-8B82-1944FB29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410-6114-46EE-9A17-1A3CECB4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133C7D-7490-41A2-83B9-68896558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ADD64-1D27-45AA-9FE4-D60D60A6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E7E45-55A1-4A32-9BC0-0BAD9082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F3A0F-449C-485C-AABE-07EDA524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D3DB8-EC0E-4F06-AB92-1483191E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CDA01-A41D-41D2-B9D0-787DAEF7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73EE1-045A-48D8-8C9B-4FA63A9B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7E67C-786F-4E30-90B1-0948495D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1467B-D6F0-4275-ABE3-B420E825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719C1-B6C1-4EAC-95E8-A49D9B21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310-B461-4ADC-BDD5-2B797ECA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4966D-7EB5-4DFE-9236-7BC08A45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7D24F-A3FC-4FCD-8515-6CC2B3E4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9510A-D56C-4ABE-8BA5-7D688A01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80D-54DD-4906-BEED-278808B9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CDB-9549-4A0F-BE75-59C5A29D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B255-7970-457B-AE26-982D0EE6F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FD75-A0BB-48F7-8CF0-349B6A424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55C2-DCE8-4B25-957C-572191BFBC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581F-BA2C-440D-9507-A1E91EEDD7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3D61-78A2-4ECC-A469-89D97701A07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4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88EB-9088-44ED-B58A-308CC7DE50E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Science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764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RICARDO 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HERRERA</a:t>
            </a:r>
            <a:r>
              <a:rPr b="0" lang="en-US" sz="3200" spc="-1" strike="noStrike">
                <a:solidFill>
                  <a:srgbClr val="89898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2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ros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low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Growt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094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Hypothesi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investigation 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inferences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independent variables 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insulation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nexhaustib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aterial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tmosphe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Is the g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surroun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 pla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2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rebuchet MS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att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ode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1720" y="385560"/>
            <a:ext cx="710568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ature of Scien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onrenewab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Ocea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hysical Scien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ahoma"/>
              </a:rPr>
              <a:t>Procedures</a:t>
            </a:r>
            <a:br>
              <a:rPr sz="3400"/>
            </a:b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physical properties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qualitative observation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quantitative observation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apacit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Is the maximum amount that can be held or take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newab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scientific observation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edi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Scale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oi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sources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ste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ummer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ex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eathering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Garamond"/>
              </a:rPr>
              <a:t>Combin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o put two or more substance togeth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3 -0.09422 L 0.11667 -0.09422 E">
                                      <p:cBhvr>
                                        <p:cTn id="57" dur="5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ference Sec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ference Sec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33520" y="11426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dependent variables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tructive For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position of Sedi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issolving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5:04:00Z</dcterms:created>
  <dc:creator>Martin Lawrenced</dc:creator>
  <dc:description/>
  <dc:language>en-US</dc:language>
  <cp:lastModifiedBy>Rusk11a Elementary School</cp:lastModifiedBy>
  <dcterms:modified xsi:type="dcterms:W3CDTF">2009-04-27T17:57:38Z</dcterms:modified>
  <cp:revision>16</cp:revision>
  <dc:subject/>
  <dc:title>Science Terms</dc:title>
</cp:coreProperties>
</file>